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76AE-2C40-40B7-8B1F-C529755FD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2E0D-2898-40E2-B828-CF905E999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BB2-5108-41A5-A877-CD3C84AB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FA0-4266-47CF-8BD5-499EFE71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FC6-B4CD-4749-8586-812323C3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922-A95F-4B20-9F19-C4EB3467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B83-15FA-4F73-8DA6-5B23B91A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00F-1C19-4170-A4BF-B597978F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50C-EAD7-4DF3-93AC-19FAD651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661-5C2F-4C9B-AF8C-B1822FC4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27E-0A67-4CFA-8D74-729724B0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9AA-D936-4537-9DA5-3E2634B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B1C-7F6E-499F-91D6-4FF1AAE0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B80-717A-4C27-B19B-62C5161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3E4D-22C6-4059-83D1-CA2981277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2:22:11Z</dcterms:created>
  <dc:creator>Long</dc:creator>
  <dc:description/>
  <dc:language>en-US</dc:language>
  <cp:lastModifiedBy>Long</cp:lastModifiedBy>
  <dcterms:modified xsi:type="dcterms:W3CDTF">2011-02-14T03:24:05Z</dcterms:modified>
  <cp:revision>21</cp:revision>
  <dc:subject/>
  <dc:title>Slide 1</dc:title>
</cp:coreProperties>
</file>